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084-1C89-450F-868B-5AB1A69C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B43-3236-4826-B7E2-36EF7B89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FCF-202C-4632-91BF-B176F4C4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5C1-E8FF-43FC-92E0-2C7F7C4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2BB-C24B-421D-897A-FD0AC47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30D5-EED5-4051-8834-FE123D3C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7E7-B5D9-4C22-8734-C5D22007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77CB-1A22-4B06-B516-07526D5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F34-D938-41A6-86D3-F859FB44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7AAE-88B8-4591-A4CB-48BA570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59F1-56C2-49F5-B9F6-59805CB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C6C-3B63-4C86-AAE5-115A439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666-79D0-4978-961A-43D6C7A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F181-08BF-40C8-87A6-E5CB130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5C08-3E31-4F24-B852-0F3FC94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382-21E1-4B6D-AFF1-2A30D31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BBB-4AF0-4454-85A7-AA76B5A5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845-A784-466B-A31D-E79117E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D38-156E-47DC-A4EE-B0766A9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287-D463-40F4-824F-3B27042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5B0-6500-42EB-AC12-6EB0713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B23-73C6-4190-9875-0A0AC53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9ED-5CE9-4BC7-97FD-F11D16AB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AD8-6796-44C7-9BA0-A842BF3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1149-E166-4DFC-883D-BA9310318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875-FBC7-4CDA-9B84-C74EB3A49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Nine-Power_Treaty" TargetMode="External"/><Relationship Id="rId3" Type="http://schemas.openxmlformats.org/officeDocument/2006/relationships/hyperlink" Target="http://en.wikipedia.org/wiki/Washington_Naval_Treaty" TargetMode="External"/><Relationship Id="rId4" Type="http://schemas.openxmlformats.org/officeDocument/2006/relationships/hyperlink" Target="http://en.wikipedia.org/wiki/Four-Power_Treaty" TargetMode="External"/><Relationship Id="rId5" Type="http://schemas.openxmlformats.org/officeDocument/2006/relationships/hyperlink" Target="http://en.wikipedia.org/wiki/Washington_Naval_Conference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Trea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aty after the 1st World War that tried to ensure peace in the world through restricted naval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main treati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-Power 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-Power Treaty AKA Washington Naval 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-Power 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ome countries wa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: Limit Japanese naval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: Limit Japanese power, avoid conflict with US, preserve lands such as Singapore/Hong K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: Treaty with UK/US. Get official recognition of owning Manchuria &amp; Mongo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any tensions and conflicts in the Eastern Pacific Oc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ger countries, such as US/UK couldn’t seek and expand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ed naval conflicts for 15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ed China from being completely colo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/In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ies still tried to figure ways to improve ship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built ships that weren’t restricted by 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 and Italy started to build warships cover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d to the rise of Japanes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36, Japan seceded from the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Failed Treaty: The Treaty of Versai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ed after the end of WWI in Versailles,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was to restrict power of Germany by making them pay war debts and humiliat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lso prohibited Germany from forming an army and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Germany, through Hitler, breached Treaty rules by creating an army, Navy, and attacking oth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d the shame and humiliation of the Treaty for his good by using the German populace to do his bi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went to Anglo-German Navy Agreement, thus effectively quitting the Treaty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en.wikipedia.org/wiki/Nine-Power_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en.wikipedia.org/wiki/Washington_Naval_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http://en.wikipedia.org/wiki/Four-Power_Tre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http://en.wikipedia.org/wiki/Washington_Naval_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42:18Z</dcterms:created>
  <dc:creator>Peter Lee</dc:creator>
  <dc:description/>
  <dc:language>en-US</dc:language>
  <cp:lastModifiedBy>Peter Lee</cp:lastModifiedBy>
  <dcterms:modified xsi:type="dcterms:W3CDTF">2008-10-14T12:29:34Z</dcterms:modified>
  <cp:revision>3</cp:revision>
  <dc:subject/>
  <dc:title>Washington Treaty</dc:title>
</cp:coreProperties>
</file>